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EF31A-CE56-478B-8763-510F2167E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91869-AE68-41D6-A25F-310F37FE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EF914-E63D-455C-BCBE-8A3EB842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218EE-A60B-4658-9CDB-D3830462E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6A9D-4E09-44C6-936D-D282D1569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EB6B2-5212-4C1D-889B-89B086D5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CC197-633D-4204-B533-9D1EE9AE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049B-4621-49EF-A193-C40EDC6F3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7775-2DA5-4D2C-A4AF-DE8B9836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6644-BB6D-4DE4-980D-0E740453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38AA-8317-4E49-A8A9-22982128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F92A-9B1C-4C07-8B4B-6EC771A94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DF81-02D4-41B1-941F-FF8B1358C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Tren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illage and Global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trade and compet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ted in technological grow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olic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rates fell 5,500 August,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sales decline July,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rates are rising</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400" spc="-1" strike="noStrike">
                <a:solidFill>
                  <a:srgbClr val="000000"/>
                </a:solidFill>
                <a:latin typeface="Arial"/>
              </a:rPr>
              <a:t>* RB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graphic Trends</a:t>
            </a:r>
            <a:endParaRPr b="0" lang="en-US" sz="4000" spc="-1" strike="noStrike">
              <a:solidFill>
                <a:srgbClr val="000000"/>
              </a:solidFill>
              <a:latin typeface="Arial"/>
            </a:endParaRPr>
          </a:p>
        </p:txBody>
      </p:sp>
      <p:sp>
        <p:nvSpPr>
          <p:cNvPr id="52" name="PlaceHolder 2"/>
          <p:cNvSpPr>
            <a:spLocks noGrp="1"/>
          </p:cNvSpPr>
          <p:nvPr>
            <p:ph/>
          </p:nvPr>
        </p:nvSpPr>
        <p:spPr>
          <a:xfrm>
            <a:off x="395280" y="981000"/>
            <a:ext cx="8291520" cy="514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y of human popul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ario’s population means growth over the next 26 years, rising 34.4 per cent, or over 4.5 million, from an estimated 13.2 million on July 1, 2010 to 17.7 million by July 1, 203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migration is projected to account for 68 per cent of all population growth in the province over the 2010–2036 period, with natural increase accounting for the remaining 32 per 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seniors aged 65 and over is projected to more than double from 1.8 million, or 13.9 per cent of population, in 2010 to 4.1 million, or 23.4 per cent, by 203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an Income --- Major Occupations</a:t>
            </a:r>
            <a:endParaRPr b="0" lang="en-US" sz="3600" spc="-1" strike="noStrike">
              <a:solidFill>
                <a:srgbClr val="000000"/>
              </a:solidFill>
              <a:latin typeface="Arial"/>
            </a:endParaRPr>
          </a:p>
        </p:txBody>
      </p:sp>
      <p:sp>
        <p:nvSpPr>
          <p:cNvPr id="4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verage wages 2010 - 2011 for select occupations in Toronto and suburbs: WowJobs.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r $89,78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82,163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nalyst $65,46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Financial Analyst $75,025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67,833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Assistant $45,19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nt $53,158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ssistant $34,025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 Representative $29,67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onist $26,3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274680"/>
            <a:ext cx="8229600" cy="1143000"/>
          </a:xfrm>
          <a:prstGeom prst="rect">
            <a:avLst/>
          </a:prstGeom>
          <a:ln w="0">
            <a:noFill/>
          </a:ln>
        </p:spPr>
      </p:pic>
      <p:sp>
        <p:nvSpPr>
          <p:cNvPr id="44" name="PlaceHolder 1"/>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 pattern or tendency or habit in soci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Trends ---    IT Specia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Trends   ---          Think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Trends   ---    Globa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Trends --- Immi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on = decrease human lab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easily sha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knowledge based econom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academic expec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pace life / lei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will double every 35 days in 202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competi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Trends</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tern, style, or habit of the society in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on from city core to suburb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sts and University professors more likely to live down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nationals working in Can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hood is beginning later in life</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s are employed            </a:t>
            </a:r>
            <a:r>
              <a:rPr b="0" lang="en-US" sz="1600" spc="-1" strike="noStrike">
                <a:solidFill>
                  <a:srgbClr val="000000"/>
                </a:solidFill>
                <a:latin typeface="Arial"/>
              </a:rPr>
              <a:t>*Stats Can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01:45:17Z</dcterms:created>
  <dc:creator>meridyth taylor</dc:creator>
  <dc:description/>
  <dc:language>en-US</dc:language>
  <cp:lastModifiedBy>meridyth taylor</cp:lastModifiedBy>
  <dcterms:modified xsi:type="dcterms:W3CDTF">2011-09-27T02:41:10Z</dcterms:modified>
  <cp:revision>3</cp:revision>
  <dc:subject/>
  <dc:title>Slide 1</dc:title>
</cp:coreProperties>
</file>